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9F2BC-76E0-471E-870F-90580668C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97E8A-403C-4701-A512-24A9D08A5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6BE2-BF9B-4F4D-9329-D05E1C7D3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0E855-A287-4A46-844A-1580D3BD5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E841F-68F9-4B87-82EF-41EEB59F7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906FE-DAA1-411E-A9C4-981BDB3DB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82B36-0F1F-4171-8670-2F876557B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DA407-9C9B-4EB9-97B5-7342F9874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0ACE2-28D0-4217-8C61-D4AE23AF4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C56B-9388-4CB7-AA9A-D27FCC893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62380-7348-4218-B525-6A1DB0480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9D98-B34A-4CEB-87A0-34074735E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D744B-78E1-437A-9F77-8F715C352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13D4-BDE5-4E1B-AA02-5B9A4D2E7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65A5-79F3-43BC-9ABA-89B770F4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6D341-441E-4A4D-8F4A-22650EF74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29E3F-B7A7-4433-8C7C-95795EA21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200EE-5659-4C85-8535-AAAC1715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B701E-43B3-4DDA-B02D-EF4FAAF1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FE02-9429-459E-B3CF-B3791C65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8982-B771-477F-9632-3903561D4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511D-1AE1-4AA9-B9B3-F9C0E654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B565-F54B-4992-A5B3-484A8700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562B-2C55-4C5C-B98E-3ECB943C6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9B3C-4C15-4F47-B9CE-F3C6B32024D7}"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2DA0-9EE3-4CBE-8383-268E1F246589}"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iSquad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Measuring Shapes Using Geometer’s Sketchpad</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any of you did a really good job.  Why don’t we share what we found out about making a triangle?  What advantages did you find in using this program? Who can share with the rest of the Squad some benefits of using Geometer’s Sketchpad?</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4"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rough animation, we can visually see some of the concepts of geometry.</a:t>
            </a:r>
            <a:endParaRPr b="0" lang="en-US" sz="3200" spc="-1" strike="noStrike">
              <a:solidFill>
                <a:srgbClr val="212164"/>
              </a:solidFill>
              <a:latin typeface="Arial"/>
            </a:endParaRPr>
          </a:p>
          <a:p>
            <a:pPr marL="260640" indent="-26064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eometer’s Sketchpad makes learning geometry fun.  It allows us to construct geometric shapes with ease.  It also allows us to make simple measurements.  </a:t>
            </a:r>
            <a:endParaRPr b="0" lang="en-US" sz="3200" spc="-1" strike="noStrike">
              <a:solidFill>
                <a:srgbClr val="212164"/>
              </a:solidFill>
              <a:latin typeface="Arial"/>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06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animation help illustrate a simple geometric concep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should we use Geometer’s Sketchpad as a tool to learn about Geomet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o can tell me what this simple animation illustrate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will learn how to create an animated triangle and measure the angles.  This will allow us to answer this question.</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draw a triangle and measure it on the Sketchpad software.  There are many steps involved in this process. We will plot the points on the canvas.  Next, we will draw the lines.  Lastly, we will use the measure menu to make the measurement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construct a triangle and measure its angles.  Take some time to create the triangle  Draw in all the lines. Measure three angles and find the area.  In addition, take a measurement of the triangle’s perimeter.  What happens to the sum of the angles when you expand the perimeter and area?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be creating a triangle.  After you create the triangle, you will measure the three angles in a triangle.  You will measure the area and perimeter.  In addition, you will measure the sum of the angles using the calculate function on the Top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re are five basic steps I will show you.  You will follow these steps to complete the task.</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Create the Angl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um of Angles in a Triangl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Construct a Shap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Measure the Perimeter and Area</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Animate a Shap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09T12:34:04Z</dcterms:modified>
  <cp:revision>3</cp:revision>
  <dc:subject/>
  <dc:title>Workshop Title</dc:title>
</cp:coreProperties>
</file>